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39E-9C14-4368-BAF6-5688D1660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th connect to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CB5B-B472-44BA-949A-5CE69028E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different from a Mesa and a platea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982-822A-4526-9B50-622BC68AC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different between plateau and but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9B7D-3BE4-4EAA-98DA-72E09ABD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EE3-0E9C-49FE-98AE-62BD4BF6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0F0-E223-44C1-B040-40DC573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58E-2E2B-4640-9FFE-2686AEBA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084-9501-4AF3-8041-82868179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D38-C251-4A0B-B9C1-9649AB32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7EA-AED6-4B30-8942-CA40E68C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D25-28D3-466C-A698-88E8D67F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0A3-56FF-4C32-BC84-29F2BC11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E20-EA37-441E-908F-7D5617E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F63-BEE9-43C9-81BC-421261C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1C7-C05A-4EFA-8A23-1342652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B0F-640A-414A-84B8-64372A4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6A13-AE1C-4DD6-9439-6754A601E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ttp://t1.gstatic.com/images?q=tbn:ANd9GcQseIPF8Bt8ePrGzg-8FWputGjieOFWeCb6gPIDD0NwC2PIB1FKcV40JeXXow"/>
          <p:cNvPicPr/>
          <p:nvPr/>
        </p:nvPicPr>
        <p:blipFill>
          <a:blip r:embed="rId1"/>
          <a:stretch/>
        </p:blipFill>
        <p:spPr>
          <a:xfrm>
            <a:off x="0" y="160020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fornian FB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Times New Roman"/>
              </a:rPr>
              <a:t>Pl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ttp://t0.gstatic.com/images?q=tbn:ANd9GcSRN8OvlBgrhcDk9OuuhYM8GyEPm5b7lcZqHEqq6YUVN2stmJWXZA"/>
          <p:cNvPicPr/>
          <p:nvPr/>
        </p:nvPicPr>
        <p:blipFill>
          <a:blip r:embed="rId1"/>
          <a:stretch/>
        </p:blipFill>
        <p:spPr>
          <a:xfrm>
            <a:off x="42840" y="1523880"/>
            <a:ext cx="6129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Perpetua"/>
              </a:rPr>
              <a:t>What is a point of land that extends into a river, lake, or ocea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324480" y="3505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</a:rPr>
              <a:t>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://t0.gstatic.com/images?q=tbn:ANd9GcQHDEQ49ypKutlW7QIFhn82CSu2xkGPng_gxZeHFnBJDolsAN9jaQ"/>
          <p:cNvPicPr/>
          <p:nvPr/>
        </p:nvPicPr>
        <p:blipFill>
          <a:blip r:embed="rId1"/>
          <a:stretch/>
        </p:blipFill>
        <p:spPr>
          <a:xfrm>
            <a:off x="0" y="190512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Rockwell Condensed"/>
              </a:rPr>
              <a:t>What is the place where a river begins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99"/>
                </a:solidFill>
                <a:latin typeface="Times New Roman"/>
              </a:rPr>
              <a:t>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t1.gstatic.com/images?q=tbn:ANd9GcQjVbHe3gh-2HdLLbulO8BsGP1zwAqvJHRu3_Z4gzVqxxBfIqeu9Q"/>
          <p:cNvPicPr/>
          <p:nvPr/>
        </p:nvPicPr>
        <p:blipFill>
          <a:blip r:embed="rId1"/>
          <a:stretch/>
        </p:blipFill>
        <p:spPr>
          <a:xfrm>
            <a:off x="0" y="1600200"/>
            <a:ext cx="6172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What is a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Rockwell Extra Bold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t2.gstatic.com/images?q=tbn:ANd9GcQeKy2txvLAA5R1XS1lfDzWvv_o7wlqBlAj2T1hvw1tLKpC7M-6zA"/>
          <p:cNvPicPr/>
          <p:nvPr/>
        </p:nvPicPr>
        <p:blipFill>
          <a:blip r:embed="rId1"/>
          <a:stretch/>
        </p:blipFill>
        <p:spPr>
          <a:xfrm>
            <a:off x="47520" y="1981080"/>
            <a:ext cx="65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http://t0.gstatic.com/images?q=tbn:ANd9GcQhnVY84twh_lzJcUw9EXFpjmry-vyMEBvjGZcao8pf0DB4n1HE"/>
          <p:cNvPicPr/>
          <p:nvPr/>
        </p:nvPicPr>
        <p:blipFill>
          <a:blip r:embed="rId1"/>
          <a:stretch/>
        </p:blipFill>
        <p:spPr>
          <a:xfrm>
            <a:off x="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http://t0.gstatic.com/images?q=tbn:ANd9GcSKjO_vVtoP-Vf6USuQo3gWvAAPi3CkFs7GSLj0NyjHOCG_LJz8Gw"/>
          <p:cNvPicPr/>
          <p:nvPr/>
        </p:nvPicPr>
        <p:blipFill>
          <a:blip r:embed="rId1"/>
          <a:stretch/>
        </p:blipFill>
        <p:spPr>
          <a:xfrm>
            <a:off x="0" y="1981080"/>
            <a:ext cx="6248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http://t3.gstatic.com/images?q=tbn:ANd9GcR0FZ4N9IjPUunZavD7C2C-hHvv0hz79OxvQXyjErAgHJxJ_-Ue"/>
          <p:cNvPicPr/>
          <p:nvPr/>
        </p:nvPicPr>
        <p:blipFill>
          <a:blip r:embed="rId1"/>
          <a:stretch/>
        </p:blipFill>
        <p:spPr>
          <a:xfrm>
            <a:off x="0" y="1905120"/>
            <a:ext cx="6324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http://t2.gstatic.com/images?q=tbn:ANd9GcRej1VJjV44cOEqeDltI2fi2rd2kXztDaHTMbxja1KMploJ-y9k"/>
          <p:cNvPicPr/>
          <p:nvPr/>
        </p:nvPicPr>
        <p:blipFill>
          <a:blip r:embed="rId1"/>
          <a:stretch/>
        </p:blipFill>
        <p:spPr>
          <a:xfrm>
            <a:off x="0" y="1981080"/>
            <a:ext cx="647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33:52Z</dcterms:modified>
  <cp:revision>33</cp:revision>
  <dc:subject/>
  <dc:title>PowerPoint Presentation</dc:title>
</cp:coreProperties>
</file>